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0F6B-1337-4266-BFC3-3F2A84FAA0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A294-490F-4C89-B01A-B7D9EF6EDE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0091-2584-46CC-9DCE-CD79F926129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1A47-8CBD-41B0-843E-C89A1A4850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92F1-DA89-4C5C-9A65-472CB676E4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1685-A38B-41A2-B5B2-3206A03C28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E70C-2241-40DE-BC16-6F32FF50DB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1D30-FD64-468E-A65B-66A810BD35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6A24-14FE-4CD6-B374-D68AAA3228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CCD5-1DB8-4F6D-8A36-C4621251B2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CF4E-9252-421F-8CD6-F3280C725C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2C5A-7362-4D2B-8CDD-A637EC3838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B5FA-FBB6-44DF-9623-ADCB3FE9F9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457B-B82C-4EB3-B51C-5BDF220FD1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5745-7ADE-4CFF-B616-D61D7A3605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A416-2F8A-4EAF-95F3-5EBB55F87D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1711-5899-4950-B6A7-2650518530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105E-D006-4FBA-87F7-EC908B8FE8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7ABC-1D3C-4469-A8DE-966EDDDA17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1CF2-59BC-4435-95FA-A2B066B61E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0B65-116A-444A-A633-1D28785F67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2AF3-B9B6-4628-A982-A9ACA3940B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8E0-5912-48C6-BAD1-EDBAB2CC5E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05BD-0CBF-43E1-8E03-C01EDC558E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4C1-7ADE-4642-A77E-E48FDABD1B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20E7-D761-4806-92A3-7BF88F5C13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AF61-CEE8-4A68-8908-2F6F956CE1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566C-A345-4485-B62B-6AE1B7B5C8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CAB9-B3B6-41FC-888B-8E3515161E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A5AA-B684-4F83-A0C3-D7AEA6616E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186C-3627-4403-B097-9745969309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AA0-C419-4CBC-845D-8418BBFE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640-A622-42D1-A1E9-34E4CBDB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019-7034-4469-B563-0BDA8FCB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EEF-242A-47F9-AD7C-FDB5188A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5C7-EF14-4AF7-A2B3-F19D5F2C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4CD-4101-4EA6-B29D-FA82CEE0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633-FEBC-4E1F-AED9-3F24FFF0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BFD-959C-4FFD-9E51-9488A719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57C-5453-4750-806A-FE97CC23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EC0-48F8-4CCE-B333-6627368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ABC-A55C-4744-84E6-315AF27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B8D-503C-4232-B67B-623441A7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666A-EB5F-4B05-AF28-07001F477940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今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īn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오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考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ǎosh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시험을 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iǎ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둘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iā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ìq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함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uéx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공부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128920"/>
            <a:ext cx="6381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500" spc="-1" strike="noStrike">
                <a:solidFill>
                  <a:srgbClr val="000000"/>
                </a:solidFill>
                <a:latin typeface="굴림"/>
              </a:rPr>
              <a:t>어기조사</a:t>
            </a:r>
            <a:r>
              <a:rPr b="0" lang="en-US" sz="7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500" spc="-1" strike="noStrike">
                <a:solidFill>
                  <a:srgbClr val="000000"/>
                </a:solidFill>
                <a:latin typeface="굴림"/>
              </a:rPr>
              <a:t>청유</a:t>
            </a:r>
            <a:r>
              <a:rPr b="0" lang="en-US" sz="7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īngqīyī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월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īngqī'èr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화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xīngqīsā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수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u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xīngqīsì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목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īngqīwǔ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금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xīngqīliù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토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xīngqītiā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休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ūx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á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오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玩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án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fùx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복습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加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yó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279760"/>
            <a:ext cx="638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힘을 내다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5500" spc="-1" strike="noStrike">
                <a:solidFill>
                  <a:srgbClr val="000000"/>
                </a:solidFill>
                <a:latin typeface="Arial"/>
              </a:rPr>
              <a:t>응원하다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빌다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기원하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快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uàil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즐겁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生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ēngr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생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儿童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Értóng Jié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어린이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昨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zuót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어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后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hòutiā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모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星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īngq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요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3:06:06Z</dcterms:created>
  <dc:creator>System</dc:creator>
  <dc:description/>
  <dc:language>en-US</dc:language>
  <cp:lastModifiedBy>System</cp:lastModifiedBy>
  <dcterms:modified xsi:type="dcterms:W3CDTF">2014-01-24T04:31:19Z</dcterms:modified>
  <cp:revision>9</cp:revision>
  <dc:subject/>
  <dc:title>슬라이드 1</dc:title>
</cp:coreProperties>
</file>